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6BD7B-FCFF-4673-9A39-512D268DF8F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67154-2DE2-4D7B-B2F1-BC2B47D16F9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E8103-9D78-417F-89D7-26B10778A6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01A9A-10A1-4D34-98F5-3AE03541F9B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4B8E0-53AC-48F8-A4C2-7E295B847F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628A1-BE90-47E9-935F-08C365E4909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B087F-8B70-4560-88CB-E16CC465BD8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B190D-1F1C-4AE1-9651-7AE33660F3A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8D1D1-DC56-4FD0-BAD3-9129985540E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E684A-7DD6-4607-BBD8-21BE897F0CE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1B303-F047-48F1-AC59-DF4859DF1C9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C317F-3303-4BA8-BEDF-F369E40ED9C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04722-2879-493E-B1AC-B60B040ED13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C7A53-AF3A-429E-A1A8-96595FD1BCD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4DD4A-C0CF-4DFD-BBE3-520BA5AEFFB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E13C0-1BA2-4225-BF99-FC41E0C1737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BCB51-E5D8-4638-9B45-0BC71E812F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23D8E-A25E-44FD-BACA-BF29FE449E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04581-BFC8-44FB-BF9B-5F8F3B4A58D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0667-B81A-4B29-822D-090D1C79D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9402-A0DC-40E0-9205-914A174D7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3BB0-139F-40D3-B3F2-7E4F98036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1278-1538-43E1-A652-EF1621EA1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D0B0-FDF8-428B-A9D3-C8E1AEE41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0FFF-2E71-4DAE-A37E-086E39F80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EB23-0A31-41CF-B7B4-F5887F341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7AF7-787D-4533-A168-F7D41EFC5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6776-1A37-4896-8B7B-B6475DC7D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178A-BE90-4EB2-A3F7-D612BC0B0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5988-035B-4513-B4B7-D9D0737DE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63FB-6E82-4282-BA5F-8FD9E9612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8400A-136D-402E-A165-0FD96A7931C9}" type="slidenum">
              <a:rPr b="0" lang="pt-B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082960"/>
            <a:ext cx="827748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Plano Nacional de Promoção das Cadeias de Produtos da Sociobiodiversida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79640" y="4211640"/>
            <a:ext cx="720072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19280" y="1260360"/>
            <a:ext cx="622944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8099640" cy="4319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0360" y="720720"/>
            <a:ext cx="828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Ls apoiados atualmente via Termo de Cooperação MMA/MD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NUD BRA 08/01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0360" y="936720"/>
            <a:ext cx="828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do Cli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3419640"/>
            <a:ext cx="828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jetos Demonstrativos - PDA/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19280" y="1440000"/>
            <a:ext cx="6300720" cy="836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547640" y="3851280"/>
            <a:ext cx="6301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71480" y="2293920"/>
            <a:ext cx="5708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PLANO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DE AÇÃO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2011-2014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671480" y="4094280"/>
            <a:ext cx="57088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PRINCIPAIS DESAFI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671480" y="2293920"/>
            <a:ext cx="5708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PLANO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DE AÇÃO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2011-2014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671480" y="4094280"/>
            <a:ext cx="57088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PRINCIPAIS DESAFI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995400"/>
            <a:ext cx="21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217440" y="158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Garantir que os produtos da Sociobiodiversidade cheguem ao mercado institucional e diferenciado (100.000 famílias acessando os mercado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241200" y="2471760"/>
            <a:ext cx="80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RGANIZAÇÃO SOCIAL E ECONÔMIC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287280" y="3057480"/>
            <a:ext cx="85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rtalecer a organização social e econômica de PCTAFs (MAT Gestão, proposta tributária, sanitária e ambiental, PSEs, APL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203040" y="4002120"/>
            <a:ext cx="8256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OLÍTICAS PÚBLICAS E SERVIÇOS DE APOI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182520" y="5029200"/>
            <a:ext cx="83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mpliar o acesso às Políticas públicas aos PCTAFs (DAP, REB, ATER, Crédito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920880"/>
            <a:ext cx="82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OMUNICA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216000" y="1557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ar visibilidade as ações e resultados da sociobiodiversidade e implantar o selo da sociobiosiversidade (divulgação do selo e das diretrizes, 250 empreendimentos com o selo e outro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252360" y="2879640"/>
            <a:ext cx="7920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ERRADICAÇÃO DA POBREZA EXTREM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52440" y="4140360"/>
            <a:ext cx="52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ESTÃO  NO PNPS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49236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50 mil famílias extrativistas com a renda elevada para acima de R$ 70,00 mê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360360" y="47052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oesão intra e entre Instituições (Câmara Nacional da Sociobiodiversidade instituída, 100% dos estados tendo a sociobiodiversidade em seus planos, programas e açõ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5920" y="1819440"/>
            <a:ext cx="83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TRIZES PARA A SUSTENTABILIDA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9415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cionar renda com a floresta em pé (agentes de ATER capacitados em boas práticas de manejo, criar sistemática de apuração de área utilizada pelos PCTAFs,  diretrizes de boas práticas elaboradas.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082960"/>
            <a:ext cx="827748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Plano Nacional de Promoção das Cadeias de Produtos da Sociobiodiversida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79640" y="4211640"/>
            <a:ext cx="7200720" cy="100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619280" y="1260360"/>
            <a:ext cx="622944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25640" y="2122560"/>
            <a:ext cx="5454720" cy="343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Desenvolver ações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integrad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para a promoção e fortaleciment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das cadeias de produt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da sociobiodiversida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503280" y="1079640"/>
            <a:ext cx="417672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  <a:ea typeface="Arial"/>
              </a:rPr>
              <a:t>Objetivo Ge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0720" y="1800360"/>
            <a:ext cx="75596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325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ens e serviço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erados à partir de recursos da biodiversidade, voltados à formação de cadeias produtivas de interesse dos PCTAFs, que promovam a manutenção 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alorização de suas práticas e saber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e assegurem os direitos decorrentes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gerando renda e promovendo a melhoria de sua qualidade de vida e do ambiente em que vive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6720" y="747720"/>
            <a:ext cx="7162920" cy="871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dutos Sociobiodiversida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1800360"/>
            <a:ext cx="8964720" cy="3616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4040" indent="-284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moção e apoio à Produção e ao Extrativismo Sustentá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ruturação e Fortalecimento dos Processos Industriai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ruturação e Fortalecimento de </a:t>
            </a:r>
            <a:r>
              <a:rPr b="1" lang="en-GB" sz="2200" spc="-1" strike="noStrike">
                <a:solidFill>
                  <a:srgbClr val="0084d1"/>
                </a:solidFill>
                <a:latin typeface="Calibri"/>
              </a:rPr>
              <a:t>Mercado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talecimetno da Organização Social e Produtiv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ções complementares para fortalecimento das cadeias de produtos da sociobiodiversida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ções complementares para Valoração dos Serviços da Sociobiodiversida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96720"/>
            <a:ext cx="417672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ixos de Açã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1724040"/>
            <a:ext cx="4284720" cy="3316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Arial"/>
              </a:rPr>
              <a:t>Institucion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PGPM, PAA, PNA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Governo – desenvolvend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estratégia para inclusão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de PCTAFs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425840" y="1800360"/>
            <a:ext cx="4573800" cy="352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Arial"/>
              </a:rPr>
              <a:t>Diferenciad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Envolvimento do Set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Empresarial com o PNPSB 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estabelecimento de critério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orientadores para 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relações comerciais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900000"/>
            <a:ext cx="8459640" cy="10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4d1"/>
                </a:solidFill>
                <a:latin typeface="Verdana"/>
                <a:ea typeface="Arial"/>
              </a:rPr>
              <a:t>Acesso ao Mercad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871640" y="4297320"/>
            <a:ext cx="758880" cy="766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871640" y="5207040"/>
            <a:ext cx="720720" cy="53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643280" y="3478320"/>
            <a:ext cx="720720" cy="53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643280" y="1901880"/>
            <a:ext cx="671760" cy="676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643280" y="4156200"/>
            <a:ext cx="720720" cy="583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1908000" y="3476520"/>
            <a:ext cx="779760" cy="722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4643280" y="2766960"/>
            <a:ext cx="720720" cy="460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1908000" y="1943280"/>
            <a:ext cx="756000" cy="636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1908000" y="2792520"/>
            <a:ext cx="792360" cy="54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4643280" y="49197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55560" y="4403880"/>
            <a:ext cx="1071720" cy="5713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çaí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4703760"/>
            <a:ext cx="1285920" cy="40644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mb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3203640" y="351468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rit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168720" y="2038320"/>
            <a:ext cx="1295280" cy="5428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naúb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4199040"/>
            <a:ext cx="1295280" cy="4777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aíb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584280" y="3570120"/>
            <a:ext cx="1214280" cy="4780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qu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3178080" y="4908600"/>
            <a:ext cx="1285920" cy="7300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açava/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açab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09480" y="2732040"/>
            <a:ext cx="1214640" cy="649440"/>
          </a:xfrm>
          <a:prstGeom prst="roundRect">
            <a:avLst>
              <a:gd name="adj" fmla="val 0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tanh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-Bras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8040" y="1940040"/>
            <a:ext cx="1071360" cy="57132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baç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49440" y="5278320"/>
            <a:ext cx="1116000" cy="48096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irob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2830680"/>
            <a:ext cx="1285920" cy="40608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rach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5904000" y="2100240"/>
            <a:ext cx="1285920" cy="40644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va M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5950080" y="4044960"/>
            <a:ext cx="1285920" cy="40644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gab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913360" y="2747880"/>
            <a:ext cx="1285920" cy="40644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nhã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5975280" y="5351400"/>
            <a:ext cx="1285920" cy="40644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cur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5913360" y="3406680"/>
            <a:ext cx="1285920" cy="406440"/>
          </a:xfrm>
          <a:prstGeom prst="roundRect">
            <a:avLst>
              <a:gd name="adj" fmla="val 16667"/>
            </a:avLst>
          </a:prstGeom>
          <a:solidFill>
            <a:srgbClr val="ff99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ça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7392960" y="2722680"/>
            <a:ext cx="635040" cy="473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7451640" y="4667400"/>
            <a:ext cx="647640" cy="533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7407360" y="2023920"/>
            <a:ext cx="693720" cy="554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7380360" y="3335400"/>
            <a:ext cx="72072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7424640" y="4019400"/>
            <a:ext cx="674640" cy="540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720720"/>
            <a:ext cx="417672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rincipais espécies promovid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0360" y="-34920"/>
            <a:ext cx="8459640" cy="104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nstâncias de Governança - PNPS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60360" y="961920"/>
            <a:ext cx="828036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60360" y="720720"/>
            <a:ext cx="8423280" cy="5603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0360" y="-34920"/>
            <a:ext cx="8459640" cy="104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APLs da Sociobiodiversida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079640"/>
            <a:ext cx="774072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que são arranjos produtivos locai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rranjos Produtivos Locais (APL) são agrupamentos de empreendimentos de um mesmo ramo, localizados em um mesmo território, que mantem algum nível de articulação, interação, cooperação e aprendizagem entre si e com os demais atores locais (governo, pesquisa, ensino, instituções de crédito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6:16:52Z</dcterms:created>
  <dc:creator>Ascom</dc:creator>
  <dc:description/>
  <dc:language>en-US</dc:language>
  <cp:lastModifiedBy>Tatiana</cp:lastModifiedBy>
  <dcterms:modified xsi:type="dcterms:W3CDTF">2012-08-14T15:27:30Z</dcterms:modified>
  <cp:revision>4</cp:revision>
  <dc:subject/>
  <dc:title>Slide 1</dc:title>
</cp:coreProperties>
</file>